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8.wmf" ContentType="image/x-wmf"/>
  <Override PartName="/ppt/media/image38.wmf" ContentType="image/x-wmf"/>
  <Override PartName="/ppt/media/image12.wmf" ContentType="image/x-wmf"/>
  <Override PartName="/ppt/media/image49.wmf" ContentType="image/x-wmf"/>
  <Override PartName="/ppt/media/image37.wmf" ContentType="image/x-wmf"/>
  <Override PartName="/ppt/media/image3.png" ContentType="image/png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50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26.wmf" ContentType="image/x-wmf"/>
  <Override PartName="/ppt/media/image62.wmf" ContentType="image/x-wmf"/>
  <Override PartName="/ppt/media/image25.wmf" ContentType="image/x-wmf"/>
  <Override PartName="/ppt/media/image28.wmf" ContentType="image/x-wmf"/>
  <Override PartName="/ppt/media/image61.wmf" ContentType="image/x-wmf"/>
  <Override PartName="/ppt/media/image7.wmf" ContentType="image/x-wmf"/>
  <Override PartName="/ppt/media/image19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57.wmf" ContentType="image/x-wmf"/>
  <Override PartName="/ppt/media/image60.wmf" ContentType="image/x-wmf"/>
  <Override PartName="/ppt/media/image20.png" ContentType="image/png"/>
  <Override PartName="/ppt/media/image23.wmf" ContentType="image/x-wmf"/>
  <Override PartName="/ppt/media/image58.wmf" ContentType="image/x-wmf"/>
  <Override PartName="/ppt/media/image21.wmf" ContentType="image/x-wmf"/>
  <Override PartName="/ppt/media/image17.png" ContentType="image/png"/>
  <Override PartName="/ppt/media/image5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png" ContentType="image/png"/>
  <Override PartName="/ppt/media/image51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5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52.wmf" ContentType="image/x-wmf"/>
  <Override PartName="/ppt/media/image53.wmf" ContentType="image/x-wmf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1F34-A49A-4B76-B31A-B05E0097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BF91-D3F7-4384-A7C5-D6EE3C95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15C8-40D6-4F48-A432-CCBE7ED8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3D60-3F67-4EBC-BAE7-C11FE579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D327-7E87-41F4-87B3-E37DFE86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8301-D954-4FAB-813F-F31C3422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98AA-0579-49C7-B414-AD59433A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63CC-03DE-40C5-A7C3-467FD69B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AB62-5444-4154-9868-42FBA74A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AC18-A682-42DA-9AD1-C4F9A907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C3FC-E566-4DF2-B840-F3E1C6DC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42AD-737C-4781-BBA7-986EA43E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4B2C-4B83-4587-BB24-BB7AD614B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hyperlink" Target="file:///tmp/home/.config/libreoffice/4/user/gallery/beep.wav" TargetMode="External"/><Relationship Id="rId7" Type="http://schemas.openxmlformats.org/officeDocument/2006/relationships/oleObject" Target="../embeddings/oleObject2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43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44.wmf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45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46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47.wmf"/><Relationship Id="rId27" Type="http://schemas.openxmlformats.org/officeDocument/2006/relationships/oleObject" Target="../embeddings/oleObject10.bin"/><Relationship Id="rId28" Type="http://schemas.openxmlformats.org/officeDocument/2006/relationships/image" Target="../media/image48.wmf"/><Relationship Id="rId29" Type="http://schemas.openxmlformats.org/officeDocument/2006/relationships/oleObject" Target="../embeddings/oleObject11.bin"/><Relationship Id="rId30" Type="http://schemas.openxmlformats.org/officeDocument/2006/relationships/image" Target="../media/image49.wmf"/><Relationship Id="rId31" Type="http://schemas.openxmlformats.org/officeDocument/2006/relationships/oleObject" Target="../embeddings/oleObject12.bin"/><Relationship Id="rId32" Type="http://schemas.openxmlformats.org/officeDocument/2006/relationships/image" Target="../media/image50.wmf"/><Relationship Id="rId33" Type="http://schemas.openxmlformats.org/officeDocument/2006/relationships/oleObject" Target="../embeddings/oleObject13.bin"/><Relationship Id="rId34" Type="http://schemas.openxmlformats.org/officeDocument/2006/relationships/image" Target="../media/image51.wmf"/><Relationship Id="rId3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6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62.wmf"/><Relationship Id="rId2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hyperlink" Target="file:///tmp/home/.config/libreoffice/4/user/gallery/beep.wav" TargetMode="External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14.wmf"/><Relationship Id="rId2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hyperlink" Target="file:///tmp/home/.config/libreoffice/4/user/gallery/beep.wav" TargetMode="External"/><Relationship Id="rId7" Type="http://schemas.openxmlformats.org/officeDocument/2006/relationships/oleObject" Target="../embeddings/oleObject2.bin"/><Relationship Id="rId8" Type="http://schemas.openxmlformats.org/officeDocument/2006/relationships/image" Target="../media/image16.wmf"/><Relationship Id="rId9" Type="http://schemas.openxmlformats.org/officeDocument/2006/relationships/image" Target="../media/image17.pn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9.wmf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hyperlink" Target="file:///tmp/home/.config/libreoffice/4/user/gallery/beep.wav" TargetMode="External"/><Relationship Id="rId7" Type="http://schemas.openxmlformats.org/officeDocument/2006/relationships/oleObject" Target="../embeddings/oleObject2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26.wmf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27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28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29.wmf"/><Relationship Id="rId27" Type="http://schemas.openxmlformats.org/officeDocument/2006/relationships/oleObject" Target="../embeddings/oleObject10.bin"/><Relationship Id="rId28" Type="http://schemas.openxmlformats.org/officeDocument/2006/relationships/image" Target="../media/image30.wmf"/><Relationship Id="rId29" Type="http://schemas.openxmlformats.org/officeDocument/2006/relationships/oleObject" Target="../embeddings/oleObject11.bin"/><Relationship Id="rId30" Type="http://schemas.openxmlformats.org/officeDocument/2006/relationships/image" Target="../media/image31.wmf"/><Relationship Id="rId31" Type="http://schemas.openxmlformats.org/officeDocument/2006/relationships/oleObject" Target="../embeddings/oleObject12.bin"/><Relationship Id="rId32" Type="http://schemas.openxmlformats.org/officeDocument/2006/relationships/image" Target="../media/image32.wmf"/><Relationship Id="rId33" Type="http://schemas.openxmlformats.org/officeDocument/2006/relationships/oleObject" Target="../embeddings/oleObject13.bin"/><Relationship Id="rId34" Type="http://schemas.openxmlformats.org/officeDocument/2006/relationships/image" Target="../media/image33.wmf"/><Relationship Id="rId35" Type="http://schemas.openxmlformats.org/officeDocument/2006/relationships/oleObject" Target="../embeddings/oleObject14.bin"/><Relationship Id="rId36" Type="http://schemas.openxmlformats.org/officeDocument/2006/relationships/image" Target="../media/image34.wmf"/><Relationship Id="rId3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beep.wav" TargetMode="External"/><Relationship Id="rId6" Type="http://schemas.openxmlformats.org/officeDocument/2006/relationships/hyperlink" Target="file:///tmp/home/.config/libreoffice/4/user/gallery/beep.wav" TargetMode="External"/><Relationship Id="rId7" Type="http://schemas.openxmlformats.org/officeDocument/2006/relationships/oleObject" Target="../embeddings/oleObject2.bin"/><Relationship Id="rId8" Type="http://schemas.openxmlformats.org/officeDocument/2006/relationships/image" Target="../media/image36.wmf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37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38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1413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C28C-ECC5-49A7-B844-D27DF677CF8F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991640" y="1052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4084920" cy="4370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77336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5164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6000" y="59500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32360" y="2492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59280" y="29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32360" y="22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2637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64000" y="263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imes New Roman"/>
              </a:rPr>
              <a:t>dx 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6360" y="22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43640" y="2637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6360" y="299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2637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imes New Roman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2565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40360" y="3716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27640" y="378936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43640" y="378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Times New Roman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3789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3333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wave function and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s 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+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n 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492480" y="1689120"/>
            <a:ext cx="1783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546280" y="1685880"/>
          <a:ext cx="4700520" cy="37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6280" y="1685880"/>
                    <a:ext cx="470052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7483320" y="52704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32" name="">
            <a:hlinkClick r:id="" action="ppaction://hlinkshowjump?jump=nextslide"/>
            <a:hlinkClick r:id="rId5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" action="ppaction://hlinkshowjump?jump=previousslide"/>
            <a:hlinkClick r:id="rId6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8800" y="2227320"/>
            <a:ext cx="2172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e coeffici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862360" y="2211480"/>
          <a:ext cx="3105000" cy="3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62360" y="2211480"/>
                    <a:ext cx="3105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492480" y="2797200"/>
            <a:ext cx="1802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and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610000" y="2701800"/>
          <a:ext cx="2966760" cy="501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10000" y="2701800"/>
                    <a:ext cx="296676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522360" y="3363840"/>
            <a:ext cx="1054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2480" y="3968640"/>
            <a:ext cx="1488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toget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300400" y="3968640"/>
          <a:ext cx="352728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00400" y="3968640"/>
                    <a:ext cx="352728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1766880" y="3246480"/>
          <a:ext cx="1209600" cy="552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66880" y="3246480"/>
                    <a:ext cx="120960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3276720" y="3354480"/>
          <a:ext cx="1458720" cy="376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76720" y="3354480"/>
                    <a:ext cx="145872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4894200" y="3213000"/>
            <a:ext cx="2192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in 2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quadr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sin + and  cos -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397640" y="2217600"/>
            <a:ext cx="1068480" cy="973080"/>
            <a:chOff x="7397640" y="2217600"/>
            <a:chExt cx="1068480" cy="973080"/>
          </a:xfrm>
        </p:grpSpPr>
        <p:sp>
          <p:nvSpPr>
            <p:cNvPr id="355" name=""/>
            <p:cNvSpPr/>
            <p:nvPr/>
          </p:nvSpPr>
          <p:spPr>
            <a:xfrm>
              <a:off x="7983720" y="221760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615440" y="272412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7" name="" descr=""/>
            <p:cNvPicPr/>
            <p:nvPr/>
          </p:nvPicPr>
          <p:blipFill>
            <a:blip r:embed="rId17"/>
            <a:stretch/>
          </p:blipFill>
          <p:spPr>
            <a:xfrm>
              <a:off x="7466040" y="280188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18"/>
            <a:stretch/>
          </p:blipFill>
          <p:spPr>
            <a:xfrm>
              <a:off x="7612200" y="230184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19"/>
            <a:stretch/>
          </p:blipFill>
          <p:spPr>
            <a:xfrm>
              <a:off x="7397640" y="2297160"/>
              <a:ext cx="3891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20"/>
            <a:stretch/>
          </p:blipFill>
          <p:spPr>
            <a:xfrm>
              <a:off x="8077320" y="2279520"/>
              <a:ext cx="388800" cy="388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61" name=""/>
          <p:cNvGraphicFramePr/>
          <p:nvPr/>
        </p:nvGraphicFramePr>
        <p:xfrm>
          <a:off x="7392960" y="3422520"/>
          <a:ext cx="1028880" cy="330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392960" y="3422520"/>
                    <a:ext cx="102888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479520" y="4521240"/>
            <a:ext cx="1752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eq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2495520" y="4497480"/>
          <a:ext cx="2354400" cy="420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95520" y="4497480"/>
                    <a:ext cx="235440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5402160" y="4417920"/>
          <a:ext cx="1967040" cy="520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402160" y="4417920"/>
                    <a:ext cx="19670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69880" y="5032440"/>
          <a:ext cx="1981080" cy="385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69880" y="5032440"/>
                    <a:ext cx="198108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2717640" y="502128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sine +, so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&amp;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quad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593640" y="5578560"/>
          <a:ext cx="4292640" cy="3078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93640" y="5578560"/>
                    <a:ext cx="429264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463680" y="914400"/>
            <a:ext cx="79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lve the equation                                           in the interval  0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360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557440" y="932040"/>
          <a:ext cx="2436840" cy="3124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557440" y="932040"/>
                    <a:ext cx="2436840" cy="31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5089680" y="5532480"/>
          <a:ext cx="2392200" cy="3650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089680" y="5532480"/>
                    <a:ext cx="23922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" action="ppaction://hlinkshowjump?jump=previousslide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21600" y="61578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8247240" y="5889600"/>
            <a:ext cx="576000" cy="77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2" name=""/>
          <p:cNvGraphicFramePr/>
          <p:nvPr/>
        </p:nvGraphicFramePr>
        <p:xfrm>
          <a:off x="1698480" y="1682640"/>
          <a:ext cx="5827680" cy="3835440"/>
        </p:xfrm>
        <a:graphic>
          <a:graphicData uri="http://schemas.openxmlformats.org/drawingml/2006/table">
            <a:tbl>
              <a:tblPr/>
              <a:tblGrid>
                <a:gridCol w="1456920"/>
                <a:gridCol w="1456920"/>
                <a:gridCol w="1456560"/>
                <a:gridCol w="145728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3695760" y="2463840"/>
          <a:ext cx="312840" cy="74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95760" y="2463840"/>
                    <a:ext cx="31284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5175360" y="2449440"/>
          <a:ext cx="312480" cy="7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75360" y="2449440"/>
                    <a:ext cx="3124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6599160" y="2449440"/>
          <a:ext cx="312840" cy="74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99160" y="2449440"/>
                    <a:ext cx="31284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6667560" y="3997440"/>
          <a:ext cx="288720" cy="745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67560" y="39974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3722760" y="3230640"/>
          <a:ext cx="288720" cy="745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22760" y="32306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6529320" y="3220920"/>
          <a:ext cx="455760" cy="773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29320" y="3220920"/>
                    <a:ext cx="4557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3625920" y="4002120"/>
          <a:ext cx="455400" cy="772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625920" y="4002120"/>
                    <a:ext cx="45540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5121360" y="3219480"/>
          <a:ext cx="477720" cy="750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121360" y="3219480"/>
                    <a:ext cx="4777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5121360" y="4000680"/>
          <a:ext cx="477720" cy="750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21360" y="4000680"/>
                    <a:ext cx="4777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3666960" y="4754520"/>
          <a:ext cx="455760" cy="750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666960" y="4754520"/>
                    <a:ext cx="4557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6539040" y="4842000"/>
          <a:ext cx="556920" cy="5569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539040" y="4842000"/>
                    <a:ext cx="55692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"/>
          <p:cNvSpPr/>
          <p:nvPr/>
        </p:nvSpPr>
        <p:spPr>
          <a:xfrm>
            <a:off x="0" y="979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exac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676764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A546-39B2-4977-BEFD-DE280ECB9CB3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900000" y="1989000"/>
            <a:ext cx="3313080" cy="439272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508720" y="1916280"/>
            <a:ext cx="3313080" cy="439236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section of a Line and a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33ED-2A68-48DE-B8F6-E4613DD92F19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3333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wave function and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s 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+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n 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981000"/>
            <a:ext cx="73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   Write 4 cosx + 3sinx in the form K cos(x-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   0 ≤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3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84464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4 cos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+ 3 sin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= K cos(x - 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)    0 ≤ 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≥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3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47640" y="2349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=  K [cos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s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+ sin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sin 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47280" y="2781360"/>
            <a:ext cx="30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=  K cos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s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+ K sin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sin 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6920" y="3141720"/>
            <a:ext cx="31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=  K cos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s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+ K sin 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sin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9640" y="3429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4       cos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+    3       sin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640" y="3860640"/>
            <a:ext cx="12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K cos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640" y="4149720"/>
            <a:ext cx="12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K sin 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920" y="458136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5373720"/>
            <a:ext cx="20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5734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11280" y="47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47640" y="47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76360" y="5734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88000" y="1844640"/>
            <a:ext cx="0" cy="453708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24000" y="3860640"/>
            <a:ext cx="1728720" cy="792360"/>
          </a:xfrm>
          <a:prstGeom prst="cloudCallout">
            <a:avLst>
              <a:gd name="adj1" fmla="val -89671"/>
              <a:gd name="adj2" fmla="val -427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is 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5516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56000" y="4653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0800000">
            <a:off x="177840" y="4576680"/>
            <a:ext cx="938160" cy="1440000"/>
          </a:xfrm>
          <a:prstGeom prst="cloudCallout">
            <a:avLst>
              <a:gd name="adj1" fmla="val -72166"/>
              <a:gd name="adj2" fmla="val 68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is 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4797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4797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2000" y="4653000"/>
            <a:ext cx="158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s therefore  in the 1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quadrant since cos and sin both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08720" y="33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028000" y="3573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s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28000" y="335772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028000" y="364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6720" y="3860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n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3789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27640" y="414972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4076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s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56360" y="378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4149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4581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56360" y="48690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2764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35640" y="51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6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32360" y="17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nd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43640" y="177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=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43640" y="2133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=  √ (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43640" y="2421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=  √ (16 + 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43640" y="270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=  √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43640" y="2997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=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0364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Find </a:t>
            </a:r>
            <a:r>
              <a:rPr b="0" i="1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56360" y="33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227640" y="4149720"/>
            <a:ext cx="216000" cy="28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156360" y="3860280"/>
            <a:ext cx="216000" cy="287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458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n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92720" y="5516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4 cos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+ 3 sin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= K cos(x - 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)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92720" y="5805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4 cos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+ 3 sin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= 5 cos(x – 36.9)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92720" y="609300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y  = 5 cos (x – 36.9)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3141720"/>
            <a:ext cx="936720" cy="574560"/>
          </a:xfrm>
          <a:prstGeom prst="ellipse">
            <a:avLst/>
          </a:prstGeom>
          <a:solidFill>
            <a:srgbClr val="ff99cc">
              <a:alpha val="4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3141720"/>
            <a:ext cx="936360" cy="574560"/>
          </a:xfrm>
          <a:prstGeom prst="ellipse">
            <a:avLst/>
          </a:prstGeom>
          <a:solidFill>
            <a:srgbClr val="ff99cc">
              <a:alpha val="4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A613-AB11-4FA8-90B7-40C254B3A7AA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0" y="3333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wave function and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s 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+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n 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981000"/>
            <a:ext cx="73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 the following in the form K cos (x -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   0 ≤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3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2349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)    6 cosx + 8 sin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2997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)    5 cosx + 12 sin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3645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)    8 cosx + 15 sin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43280" y="2276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a)    y = 10 cos(x – 53.13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43280" y="299736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b)    y = 13 cos(x – 67.38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364500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)    y = 17 cos(x – 61.927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27640" y="652140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AFF0-AB51-4F15-991F-FBF214AE2E12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1989000"/>
            <a:ext cx="6626160" cy="403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2637000"/>
            <a:ext cx="745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ave Functio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age 253 Exercise 1A    Q2, Q3, Q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40000" y="3333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wave function and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s 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+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n 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4221000"/>
            <a:ext cx="745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xtension  Wave   Functio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age 253   Exercise 1B    Q1, Q2, Q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D4C0-C06F-4FEE-9B6E-F4257585ED93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40000" y="3333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wave function and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s 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+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n 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981000"/>
            <a:ext cx="73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 the following in the form K cos (x -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   0 ≤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3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84464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Exam Standard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33880" y="1851120"/>
            <a:ext cx="20754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and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n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938320" y="1876320"/>
          <a:ext cx="4532400" cy="37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38320" y="1876320"/>
                    <a:ext cx="45324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6216480" y="457524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" action="ppaction://hlinkshowjump?jump=nextslide"/>
            <a:hlinkClick r:id="rId5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  <a:hlinkClick r:id="rId6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0200" y="2533680"/>
            <a:ext cx="2172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e coeffici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17880" y="2517840"/>
          <a:ext cx="2874960" cy="3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17880" y="2517840"/>
                    <a:ext cx="287496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578160" y="3254400"/>
            <a:ext cx="1802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and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989440" y="3192480"/>
          <a:ext cx="2576160" cy="43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89440" y="3192480"/>
                    <a:ext cx="2576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577800" y="3913200"/>
            <a:ext cx="1054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6360" y="4619520"/>
            <a:ext cx="1488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toget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286000" y="4605480"/>
          <a:ext cx="3666960" cy="45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0" y="4605480"/>
                    <a:ext cx="366696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2333520" y="3809880"/>
          <a:ext cx="1032120" cy="552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33520" y="3809880"/>
                    <a:ext cx="10321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699000" y="3917880"/>
          <a:ext cx="1458720" cy="376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99000" y="3917880"/>
                    <a:ext cx="145872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5329080" y="3762360"/>
            <a:ext cx="2192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in 1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quadr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sin and cos are both +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459560" y="2536920"/>
            <a:ext cx="1111320" cy="969840"/>
            <a:chOff x="7459560" y="2536920"/>
            <a:chExt cx="1111320" cy="969840"/>
          </a:xfrm>
        </p:grpSpPr>
        <p:sp>
          <p:nvSpPr>
            <p:cNvPr id="183" name=""/>
            <p:cNvSpPr/>
            <p:nvPr/>
          </p:nvSpPr>
          <p:spPr>
            <a:xfrm>
              <a:off x="7902720" y="253692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34440" y="304308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17"/>
            <a:stretch/>
          </p:blipFill>
          <p:spPr>
            <a:xfrm>
              <a:off x="7975440" y="3049560"/>
              <a:ext cx="389160" cy="3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8"/>
            <a:stretch/>
          </p:blipFill>
          <p:spPr>
            <a:xfrm>
              <a:off x="7459560" y="2600280"/>
              <a:ext cx="389160" cy="3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19"/>
            <a:stretch/>
          </p:blipFill>
          <p:spPr>
            <a:xfrm>
              <a:off x="7977240" y="2587680"/>
              <a:ext cx="388800" cy="3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20"/>
            <a:stretch/>
          </p:blipFill>
          <p:spPr>
            <a:xfrm>
              <a:off x="8182080" y="2606760"/>
              <a:ext cx="388800" cy="3884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89" name=""/>
          <p:cNvGraphicFramePr/>
          <p:nvPr/>
        </p:nvGraphicFramePr>
        <p:xfrm>
          <a:off x="7553160" y="3900600"/>
          <a:ext cx="932040" cy="330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53160" y="3900600"/>
                    <a:ext cx="9320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1" name=""/>
          <p:cNvGrpSpPr/>
          <p:nvPr/>
        </p:nvGrpSpPr>
        <p:grpSpPr>
          <a:xfrm>
            <a:off x="477720" y="901800"/>
            <a:ext cx="8188560" cy="412560"/>
            <a:chOff x="477720" y="901800"/>
            <a:chExt cx="8188560" cy="412560"/>
          </a:xfrm>
        </p:grpSpPr>
        <p:sp>
          <p:nvSpPr>
            <p:cNvPr id="192" name=""/>
            <p:cNvSpPr/>
            <p:nvPr/>
          </p:nvSpPr>
          <p:spPr>
            <a:xfrm>
              <a:off x="477720" y="901800"/>
              <a:ext cx="818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xpress                                  in the fo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3" name=""/>
            <p:cNvGraphicFramePr/>
            <p:nvPr/>
          </p:nvGraphicFramePr>
          <p:xfrm>
            <a:off x="1417680" y="961920"/>
            <a:ext cx="1736640" cy="2923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417680" y="961920"/>
                      <a:ext cx="1736640" cy="2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5" name=""/>
            <p:cNvGraphicFramePr/>
            <p:nvPr/>
          </p:nvGraphicFramePr>
          <p:xfrm>
            <a:off x="4313160" y="950760"/>
            <a:ext cx="4302360" cy="3636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313160" y="950760"/>
                      <a:ext cx="4302360" cy="36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536040" y="2808360"/>
            <a:ext cx="2160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for sine oc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963880" y="2671920"/>
          <a:ext cx="1192320" cy="59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63880" y="2671920"/>
                    <a:ext cx="119232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4865760" y="474516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" action="ppaction://hlinkshowjump?jump=nextslide"/>
            <a:hlinkClick r:id="rId5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" action="ppaction://hlinkshowjump?jump=previousslide"/>
            <a:hlinkClick r:id="rId6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0560" y="3490920"/>
            <a:ext cx="2946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value of sine func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7080" y="4211640"/>
            <a:ext cx="2401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value of fun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34880" y="865080"/>
            <a:ext cx="5856480" cy="1519920"/>
            <a:chOff x="434880" y="865080"/>
            <a:chExt cx="5856480" cy="1519920"/>
          </a:xfrm>
        </p:grpSpPr>
        <p:sp>
          <p:nvSpPr>
            <p:cNvPr id="215" name=""/>
            <p:cNvSpPr/>
            <p:nvPr/>
          </p:nvSpPr>
          <p:spPr>
            <a:xfrm>
              <a:off x="434880" y="865080"/>
              <a:ext cx="585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The diagram shows an incomplete graph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o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6" name=""/>
            <p:cNvGraphicFramePr/>
            <p:nvPr/>
          </p:nvGraphicFramePr>
          <p:xfrm>
            <a:off x="1055520" y="1262160"/>
            <a:ext cx="3532320" cy="709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55520" y="1262160"/>
                      <a:ext cx="3532320" cy="70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" name=""/>
            <p:cNvSpPr/>
            <p:nvPr/>
          </p:nvSpPr>
          <p:spPr>
            <a:xfrm>
              <a:off x="522360" y="1986120"/>
              <a:ext cx="52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Find the coordinates of the maximum stationary point.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" descr=""/>
          <p:cNvPicPr/>
          <p:nvPr/>
        </p:nvPicPr>
        <p:blipFill>
          <a:blip r:embed="rId9"/>
          <a:stretch/>
        </p:blipFill>
        <p:spPr>
          <a:xfrm>
            <a:off x="5668920" y="712800"/>
            <a:ext cx="2940120" cy="19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4416480" y="2682720"/>
          <a:ext cx="954000" cy="590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416480" y="2682720"/>
                    <a:ext cx="95400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3700440" y="3478320"/>
            <a:ext cx="40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e takes values between 1 and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71680" y="422424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7440" y="4910040"/>
            <a:ext cx="2591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s of max s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517920" y="4784760"/>
          <a:ext cx="858960" cy="662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517920" y="4784760"/>
                    <a:ext cx="85896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7" name="" descr=""/>
          <p:cNvPicPr/>
          <p:nvPr/>
        </p:nvPicPr>
        <p:blipFill>
          <a:blip r:embed="rId14"/>
          <a:stretch/>
        </p:blipFill>
        <p:spPr>
          <a:xfrm>
            <a:off x="5764320" y="5891040"/>
            <a:ext cx="595080" cy="7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33880" y="2279520"/>
            <a:ext cx="2113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and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914560" y="2305080"/>
          <a:ext cx="4581720" cy="37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4560" y="2305080"/>
                    <a:ext cx="458172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6554880" y="58341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" action="ppaction://hlinkshowjump?jump=nextslide"/>
            <a:hlinkClick r:id="rId5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previousslide"/>
            <a:hlinkClick r:id="rId6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0200" y="2805120"/>
            <a:ext cx="2172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e coeffici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017880" y="2789280"/>
          <a:ext cx="2874960" cy="3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17880" y="2789280"/>
                    <a:ext cx="287496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78160" y="3340080"/>
            <a:ext cx="1802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and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011400" y="3278160"/>
          <a:ext cx="2530440" cy="43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11400" y="3278160"/>
                    <a:ext cx="253044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577800" y="3870360"/>
            <a:ext cx="1054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6360" y="4405320"/>
            <a:ext cx="1488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toget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435400" y="4405320"/>
          <a:ext cx="342396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35400" y="4405320"/>
                    <a:ext cx="3423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2335320" y="3767040"/>
          <a:ext cx="1030320" cy="552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35320" y="3767040"/>
                    <a:ext cx="10303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3699000" y="3875040"/>
          <a:ext cx="1458720" cy="376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99000" y="3875040"/>
                    <a:ext cx="145872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5329080" y="3719520"/>
            <a:ext cx="2192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is in 1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quadr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sin and cos are both +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7370640" y="2724120"/>
            <a:ext cx="1096920" cy="969840"/>
            <a:chOff x="7370640" y="2724120"/>
            <a:chExt cx="1096920" cy="969840"/>
          </a:xfrm>
        </p:grpSpPr>
        <p:sp>
          <p:nvSpPr>
            <p:cNvPr id="259" name=""/>
            <p:cNvSpPr/>
            <p:nvPr/>
          </p:nvSpPr>
          <p:spPr>
            <a:xfrm>
              <a:off x="7813800" y="272412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45520" y="323064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17"/>
            <a:stretch/>
          </p:blipFill>
          <p:spPr>
            <a:xfrm>
              <a:off x="7886880" y="3236760"/>
              <a:ext cx="388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18"/>
            <a:stretch/>
          </p:blipFill>
          <p:spPr>
            <a:xfrm>
              <a:off x="7370640" y="2808360"/>
              <a:ext cx="3891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19"/>
            <a:stretch/>
          </p:blipFill>
          <p:spPr>
            <a:xfrm>
              <a:off x="7888320" y="2774880"/>
              <a:ext cx="388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20"/>
            <a:stretch/>
          </p:blipFill>
          <p:spPr>
            <a:xfrm>
              <a:off x="8078760" y="2786040"/>
              <a:ext cx="388800" cy="388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65" name=""/>
          <p:cNvGraphicFramePr/>
          <p:nvPr/>
        </p:nvGraphicFramePr>
        <p:xfrm>
          <a:off x="7566120" y="3857760"/>
          <a:ext cx="907920" cy="330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66120" y="3857760"/>
                    <a:ext cx="9079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380988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623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1016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0720" y="768240"/>
            <a:ext cx="7569360" cy="1219680"/>
            <a:chOff x="450720" y="768240"/>
            <a:chExt cx="7569360" cy="1219680"/>
          </a:xfrm>
        </p:grpSpPr>
        <p:graphicFrame>
          <p:nvGraphicFramePr>
            <p:cNvPr id="271" name=""/>
            <p:cNvGraphicFramePr/>
            <p:nvPr/>
          </p:nvGraphicFramePr>
          <p:xfrm>
            <a:off x="517680" y="768240"/>
            <a:ext cx="2909880" cy="3826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72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17680" y="768240"/>
                      <a:ext cx="2909880" cy="38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3" name=""/>
            <p:cNvSpPr/>
            <p:nvPr/>
          </p:nvSpPr>
          <p:spPr>
            <a:xfrm>
              <a:off x="450720" y="1166760"/>
              <a:ext cx="39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a)     Express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  in the fo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4" name=""/>
            <p:cNvGraphicFramePr/>
            <p:nvPr/>
          </p:nvGraphicFramePr>
          <p:xfrm>
            <a:off x="3551400" y="1203480"/>
            <a:ext cx="4468680" cy="3412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3551400" y="1203480"/>
                      <a:ext cx="4468680" cy="34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6" name=""/>
            <p:cNvGraphicFramePr/>
            <p:nvPr/>
          </p:nvGraphicFramePr>
          <p:xfrm>
            <a:off x="3514680" y="1611360"/>
            <a:ext cx="3197160" cy="3715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3514680" y="1611360"/>
                      <a:ext cx="3197160" cy="37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8" name=""/>
            <p:cNvSpPr/>
            <p:nvPr/>
          </p:nvSpPr>
          <p:spPr>
            <a:xfrm>
              <a:off x="463680" y="1589040"/>
              <a:ext cx="306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b)     Hence solve algebraicall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577800" y="4971960"/>
            <a:ext cx="1752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eq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2562120" y="4987800"/>
          <a:ext cx="2252880" cy="420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562120" y="4987800"/>
                    <a:ext cx="225288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5508720" y="4924440"/>
          <a:ext cx="1865160" cy="5205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508720" y="4924440"/>
                    <a:ext cx="18651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673200" y="5483160"/>
          <a:ext cx="1861920" cy="3859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73200" y="5483160"/>
                    <a:ext cx="186192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2787480" y="548640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sine +, so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&amp;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quad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715000" y="5533920"/>
          <a:ext cx="2097000" cy="3081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715000" y="5533920"/>
                    <a:ext cx="20970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492480" y="2192400"/>
            <a:ext cx="27165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tan A = sin A / co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636560" y="2660760"/>
          <a:ext cx="1006560" cy="55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6560" y="2660760"/>
                    <a:ext cx="100656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554880" y="58341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97" name="">
            <a:hlinkClick r:id="" action="ppaction://hlinkshowjump?jump=nextslide"/>
            <a:hlinkClick r:id="rId5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" action="ppaction://hlinkshowjump?jump=previousslide"/>
            <a:hlinkClick r:id="rId6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3560" y="2757600"/>
            <a:ext cx="813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757600" y="3363840"/>
          <a:ext cx="1458720" cy="376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57600" y="3363840"/>
                    <a:ext cx="145872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3227400" y="4029120"/>
            <a:ext cx="41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ne and cosine are both + in original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7507440" y="3562200"/>
            <a:ext cx="1096920" cy="969840"/>
            <a:chOff x="7507440" y="3562200"/>
            <a:chExt cx="1096920" cy="969840"/>
          </a:xfrm>
        </p:grpSpPr>
        <p:sp>
          <p:nvSpPr>
            <p:cNvPr id="309" name=""/>
            <p:cNvSpPr/>
            <p:nvPr/>
          </p:nvSpPr>
          <p:spPr>
            <a:xfrm>
              <a:off x="7950600" y="356220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82320" y="406872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" name="" descr=""/>
            <p:cNvPicPr/>
            <p:nvPr/>
          </p:nvPicPr>
          <p:blipFill>
            <a:blip r:embed="rId9"/>
            <a:stretch/>
          </p:blipFill>
          <p:spPr>
            <a:xfrm>
              <a:off x="8023680" y="4074840"/>
              <a:ext cx="388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10"/>
            <a:stretch/>
          </p:blipFill>
          <p:spPr>
            <a:xfrm>
              <a:off x="7507440" y="3646440"/>
              <a:ext cx="3891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11"/>
            <a:stretch/>
          </p:blipFill>
          <p:spPr>
            <a:xfrm>
              <a:off x="8025120" y="3612960"/>
              <a:ext cx="388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12"/>
            <a:stretch/>
          </p:blipFill>
          <p:spPr>
            <a:xfrm>
              <a:off x="8215560" y="3624120"/>
              <a:ext cx="388800" cy="388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15" name=""/>
          <p:cNvGraphicFramePr/>
          <p:nvPr/>
        </p:nvGraphicFramePr>
        <p:xfrm>
          <a:off x="3389400" y="5106960"/>
          <a:ext cx="907920" cy="330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89400" y="5106960"/>
                    <a:ext cx="9079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463680" y="857160"/>
            <a:ext cx="8157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lve the simultaneous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here  k &gt; 0  and  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3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479840" y="952560"/>
          <a:ext cx="1297080" cy="716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479840" y="952560"/>
                    <a:ext cx="12970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493920" y="3352680"/>
            <a:ext cx="1866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cute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94640" y="4038480"/>
            <a:ext cx="2462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quadra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54400" y="4576680"/>
            <a:ext cx="41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olution must be in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quad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93200" y="5105520"/>
            <a:ext cx="1563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23:13Z</dcterms:created>
  <dc:creator>Caroline</dc:creator>
  <dc:description/>
  <dc:language>en-US</dc:language>
  <cp:lastModifiedBy>Caroline</cp:lastModifiedBy>
  <dcterms:modified xsi:type="dcterms:W3CDTF">2009-01-19T23:35:14Z</dcterms:modified>
  <cp:revision>36</cp:revision>
  <dc:subject/>
  <dc:title>Slide 1</dc:title>
</cp:coreProperties>
</file>